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2CA7C-B162-4D83-94CC-F954DE310CC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2D9BB-D749-413A-83A7-EA692FF943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B6DEB-819C-4B9C-8343-F65AFB4FE5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1C9AB-EBBD-4937-B919-EAAE102FA6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B6D58-43A6-4E7D-BD56-019A35829B3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96E12-07B8-47C2-9471-24ACA260D6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0FB72-F384-4753-B0E4-EA3F483519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CD98-D2A2-4F19-AEF6-67B4BA27F8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1780-8034-4C78-8BA1-7CF5E991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CF19-E94E-4615-9D74-AD251892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9B30-B5BF-4553-AA57-4EF36E450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40A0-92AD-4FAC-BF6F-F5AE30EA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AEEA-AC83-4C99-90BC-EEB62FB9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15AC-6D22-4F4E-92FD-875DACFC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71E0-EF18-42ED-9E3A-0250A62F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F589-5265-41F8-9570-3C6CD04C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C9C1-9055-4FD0-9337-29CD503F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B1D5-BEFB-4E28-A09F-793A595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CE3D-D3B8-492F-998F-0E6FCBA7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30A70C-3AAB-4DE1-A254-77688724C385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FORMACIÓN DE Y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2" descr=""/>
          <p:cNvPicPr/>
          <p:nvPr/>
        </p:nvPicPr>
        <p:blipFill>
          <a:blip r:embed="rId1"/>
          <a:stretch/>
        </p:blipFill>
        <p:spPr>
          <a:xfrm>
            <a:off x="6875640" y="1757520"/>
            <a:ext cx="1800000" cy="5100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84240" y="9036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y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71640" y="1413000"/>
            <a:ext cx="7272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chas plantas pueden generar nuevas plantas a partir de las yemas, que son unos grupos de célula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tegidos por una envoltura imperme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yemas pueden formarse en varios luga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00000" y="836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Formación de yemas o multiplicación vege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2610000" cy="3529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2771640" y="3716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interior de tallos subterráneos de tipo bulbo (por ejemplo, en las ceboll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148360" y="3068640"/>
            <a:ext cx="180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superficie de tallos subterráneos de tipo tubércul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or ejempl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s patat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398760" cy="3036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5027400" cy="2448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3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84240" y="9036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y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836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Formación de yemas o multiplicación vege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3059280" y="1413000"/>
            <a:ext cx="30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allos aére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or ejemplo, los estolone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s fres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3552840" cy="266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1908000" y="3716280"/>
            <a:ext cx="25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allos subterráneos tipo rizom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mo los liri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508720" y="5229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base de las hojas (como los bulbil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04:27Z</dcterms:modified>
  <cp:revision>53</cp:revision>
  <dc:subject/>
  <dc:title>Diapositiva 1</dc:title>
</cp:coreProperties>
</file>